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942E-A0AA-42D3-996A-B580F5A79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63EA-BBF0-46D8-8986-8174594DF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28F-A3A5-447F-AD0A-5EADEBD1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608-BA62-4640-BDB2-C351CB6E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A80-BAFB-4F62-AAA3-CFA629B3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29D-1CDC-4A79-8D3C-45E49254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4800-3407-41C2-AD51-481D2739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86B7-EB5F-40AE-9435-0B39AD36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1D6F-DA62-4E7A-B565-14AE8EE0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E111-EBB7-4175-AC13-19BEAD9F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6A5D-4B55-4C74-8D87-C71697B1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B74B-5425-4381-ABE4-7614662D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3654-41C2-4D26-9B60-ECD1681E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E20-83F0-4AC6-8AFD-59F0E30F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EC09-7000-42ED-B247-568A99FF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6648-2BBF-4AB5-A120-AB98CD29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0632-6248-4A17-A719-97E4AA2B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FB0B-7F8F-4610-8793-654808C7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B31B-16E2-4D24-9420-6CBD3193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B2C81-9C59-4273-BFEE-A65AE0E0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C04D9-C071-4311-8B97-5856AC9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1FEE6-9582-423C-BC7F-A0BD0377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FBCF7-99EF-49E7-8AC9-A032C16F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72312-9781-4CE0-8BFA-39ED551D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129-93E7-4CF1-B515-CF28AA15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C146E-30F2-4DFE-A757-CF874332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17FBD-199D-4543-9414-5E04B290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176B5-EE17-430F-BF75-CA30B1B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A6DEA-49CB-405A-ADB1-78AB1A1F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AE4AE-DD0C-4E13-83AC-89287D55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6492E-7CFB-4BBD-B7D0-E00D0AEF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2EFC1-B4F2-412B-A156-F15998FA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6748E-E5D2-4A87-94F7-67286932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705BD-CC9D-493B-A21B-5DCDAAB9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92C1B-11FB-4C76-857B-E6F18F43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70B-E464-4880-91A3-D1E6BF6F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90517-EC8B-43E4-96BC-C2621390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B593F-40DA-47A3-B5A7-61F48786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B131D-D0E6-4F54-B8D2-E3FCBDCC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095B-EB6F-4C73-B806-CAEE0420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F8CFE-4CD5-4A63-A102-8CCD11E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FD67-18B5-4D12-9177-AA30893F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3AC6-825A-4EBB-9F97-6398C79D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ED79-080F-4E64-A950-0A215A33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58BE-0B2C-4ACE-84F8-E1457DCF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A3F-3A79-45A2-AC14-DD2FE998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40C-DE4E-4043-8FB6-FBD694E5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55B-DCC1-4054-9A09-488F770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7FC-32C6-4FBB-84F4-CAC7EB98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4E0-6734-46BE-83A6-E4A0C056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8C73-8024-42B6-A1FF-0863FEE4DE33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AAA8-BEF4-4E9F-AFDD-B66DD233F18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FCDF-E457-44B1-B9F3-6AF80437D38A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1261-3896-4491-A1C2-3A3036804367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37C7-423D-42AF-967F-7C570E064743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6722-6698-4355-BB11-D5AC2636B44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CB76-0B96-4672-90BF-25FDBBDDB961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BE56-01E8-4015-A491-74B6A96CF4E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South Dakota AFNR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Academic Integration Activities: Example #7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6438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484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irst, identify what we kno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P = 35 watts, E = 12 volts, we want to find R (ohms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the equation to work with the information give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R = E</a:t>
            </a:r>
            <a:r>
              <a:rPr b="0" lang="en-US" sz="18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/P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lug in the informa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R = 12</a:t>
            </a:r>
            <a:r>
              <a:rPr b="0" lang="en-US" sz="18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/35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ollowing algebraic order of operation (parenthesis – exponents – multiply – divide – add – subtract), continue the calcula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R = 144/35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12120" indent="-2484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 = 4.1 ohm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82120" indent="-24804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The bulb must have a resistance of 4.1 ohms to work properl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920" y="2323800"/>
            <a:ext cx="68817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ssume a student is installing a corn planter monitor on a tractor. The tractor has 2 – 6 volt batteries and the monitor has a resistance of 50 ohms. How much power will the monitor need to run properly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28440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nswer: 2.88 watt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E</a:t>
            </a:r>
            <a:r>
              <a:rPr b="0" lang="en-US" sz="20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/R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 = 12 volts (the 2 – 6 volt batteries add together for a total of 12 volts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 = 50 ohm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12</a:t>
            </a:r>
            <a:r>
              <a:rPr b="0" lang="en-US" sz="20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/5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144/5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30640" indent="-2264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2.88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dependent Practice Exercis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is replacing one of the monitors on a tractor console. What is the resistance needed in this circuit if it is a 15 watt, 2 amp monitor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nswer: 3.75 ohm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 = P/I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 = 15/2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 = 15/4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 = 3.75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09480" y="190008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Verdana"/>
              </a:rPr>
              <a:t>Ag Power Technology students will add, subtract, multiply and divide real numbers including integral exponents when figuring Ohm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g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g Power Technology, 3.9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llustrate various electric motor types, operation and maintenanc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lculate problems using Ohm’s la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ademic Stand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9-12.N.2.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tudents are able to add, subtract, multiply and divide real numbers including integral exponen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920" y="2313000"/>
            <a:ext cx="37576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566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Ohm’s Law is the foundation of understanding electronics and electricit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22200" indent="-256680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2d"/>
                </a:solidFill>
                <a:latin typeface="Century Gothic"/>
              </a:rPr>
              <a:t>The diagram shows all of the equations and relationships between power (represented by a P, measured in watts), voltage (represented by an E, measured in volts), current (represented by an I, measured in amps) and resistance (represented with an R, measured in ohms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1" name="Content Placeholder 7" descr=""/>
          <p:cNvPicPr/>
          <p:nvPr/>
        </p:nvPicPr>
        <p:blipFill>
          <a:blip r:embed="rId1"/>
          <a:srcRect l="1975" t="16288" r="33878" b="20267"/>
          <a:stretch/>
        </p:blipFill>
        <p:spPr>
          <a:xfrm>
            <a:off x="4863960" y="2209680"/>
            <a:ext cx="3670560" cy="37832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4"/>
          <p:cNvSpPr/>
          <p:nvPr/>
        </p:nvSpPr>
        <p:spPr>
          <a:xfrm>
            <a:off x="4834080" y="616104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e3d2d"/>
                </a:solidFill>
                <a:latin typeface="Century Gothic"/>
              </a:rPr>
              <a:t>Image </a:t>
            </a: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from: http://fixitnow.com/wp-content/uploads/2009/03/ohmspie-450x450.gif. R</a:t>
            </a:r>
            <a:r>
              <a:rPr b="0" lang="en-US" sz="800" spc="-1" strike="noStrike">
                <a:solidFill>
                  <a:srgbClr val="3e3d2d"/>
                </a:solidFill>
                <a:latin typeface="Arial"/>
              </a:rPr>
              <a:t>etrieved on </a:t>
            </a: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July </a:t>
            </a:r>
            <a:r>
              <a:rPr b="0" lang="en-US" sz="800" spc="-1" strike="noStrike">
                <a:solidFill>
                  <a:srgbClr val="3e3d2d"/>
                </a:solidFill>
                <a:latin typeface="Century Gothic"/>
              </a:rPr>
              <a:t>27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ackground Informa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ome of the equations used in Ohm’s Law include integral exponen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tegral exponents are written with a base number and an expon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ample: In 4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, 4 is the base and 2 is the exponen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hat 4</a:t>
            </a:r>
            <a:r>
              <a:rPr b="0" lang="en-US" sz="20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actually represents is 4 * 4, which equals 16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radio in a tractor with a resistance of 30 ohms has a current of 0.1 amps flowing through it. Calculate how much power must be supplied to make it work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xample in Contex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920" y="2323800"/>
            <a:ext cx="73389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what we kno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69160" indent="-2426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= 0.1 amps, R = 30 ohms, we want to find 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dentify the equation to us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69160" indent="-2426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I</a:t>
            </a:r>
            <a:r>
              <a:rPr b="0" lang="en-US" sz="2000" spc="-1" strike="noStrike" baseline="30000">
                <a:solidFill>
                  <a:srgbClr val="3e3d2d"/>
                </a:solidFill>
                <a:latin typeface="Century Gothic"/>
              </a:rPr>
              <a:t>2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* R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lug I and R into the equation to solve for 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569160" indent="-2426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0.1</a:t>
            </a:r>
            <a:r>
              <a:rPr b="0" lang="en-US" sz="20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amps * 30 ohm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ollowing algebraic order of operation (parenthesis – exponents – multiply – divide – add – subtract), continue the calculati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0.01 * 3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05280" indent="-243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 = 0.3 watt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Guided Practice Exercis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ume a student needs to replace a headlight on a Farmall Super M. When she went to the tractor supply dealership, she was given a 35 watt bulb. She knows the battery in the tractor is 12 volts.  What does the resistance of the bulb need to be for it to work properly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8:41:56Z</dcterms:created>
  <dc:creator>Lora</dc:creator>
  <dc:description/>
  <dc:language>en-US</dc:language>
  <cp:lastModifiedBy>Lora Matzner</cp:lastModifiedBy>
  <dcterms:modified xsi:type="dcterms:W3CDTF">2011-08-04T17:52:26Z</dcterms:modified>
  <cp:revision>98</cp:revision>
  <dc:subject/>
  <dc:title>South Dakota Ag Education</dc:title>
</cp:coreProperties>
</file>